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34A-4EBB-4C69-BA87-A5349748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E26-8880-451E-9E67-5C35C7D4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7C7-2696-4785-98CE-E6FC3E46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6F3-E3C9-43FE-B92F-2C0B085E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4C0-D554-44A3-A9A0-61DB0A09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813-F202-4826-80EF-87B2DEFB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C9B-F10A-4FC9-9821-F6956423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362-81B6-4EA2-A188-4866E3C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680-A9A9-403A-B762-FA701746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281-5317-4ECB-9E3D-A402107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282-3E9A-419C-A9C1-C3536859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A80-C8C7-48F1-A9EC-D1D0BD4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F9B4-7C0E-4824-8EB6-A5382182BDFC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533520"/>
            <a:ext cx="861048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بصوتِ الحمدِ أذبحُ لك، وأعودُ أنظر هيكلك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لأنكَ استجبتَ لي... كلُّ ما فيَّ يشكر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533520"/>
            <a:ext cx="861048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بصوتِ الحمدِ أذبحُ لك، وأعودُ أنظر هيكلك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لأنكَ استجبتَ لي... كلُّ ما فيَّ يشكر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0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746280"/>
            <a:ext cx="2895480" cy="80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500" spc="-1" strike="noStrike">
                <a:solidFill>
                  <a:srgbClr val="ffffff"/>
                </a:solidFill>
                <a:latin typeface="Arial"/>
              </a:rPr>
              <a:t>جازت من فوقي تيارات وأغرقتني الضيقات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990720" y="76320"/>
            <a:ext cx="10134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228600"/>
            <a:ext cx="93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</a:rPr>
              <a:t>والعشب التفَّ برأسي والماء عبر إلى نفس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29200" y="457200"/>
            <a:ext cx="3581280" cy="70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500" spc="-1" strike="noStrike">
                <a:solidFill>
                  <a:srgbClr val="ffffff"/>
                </a:solidFill>
                <a:latin typeface="Arial"/>
              </a:rPr>
              <a:t>صلى يونان من جوف الحوت، أصدرتَ أمراً ألا يموت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22860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cc00"/>
                </a:solidFill>
                <a:latin typeface="Arial"/>
              </a:rPr>
              <a:t>من جوف الهاوية صرخ، وبالمراحم سمعت الصو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2:07:40Z</dcterms:created>
  <dc:creator>user</dc:creator>
  <dc:description/>
  <dc:language>en-US</dc:language>
  <cp:lastModifiedBy>user</cp:lastModifiedBy>
  <dcterms:modified xsi:type="dcterms:W3CDTF">2006-09-01T13:39:13Z</dcterms:modified>
  <cp:revision>15</cp:revision>
  <dc:subject/>
  <dc:title>Slide 1</dc:title>
</cp:coreProperties>
</file>